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DC1-4A2F-4F84-807C-42383BF6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6FA-2EFF-4219-BB17-31E1E128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9DA-3B0B-41B0-BFAF-B9A7A17C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DCF-2983-4AFF-95B8-65438E3F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83F9-34BC-4E94-9020-50260552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00B7-F33A-4183-BE18-E3392B0F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4A6D-C155-4CE5-8223-67620092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1D19-9B4F-4F6F-967B-830BB05E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5167-68F4-46E1-BD0C-C1AC0D02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F690-72FB-49B4-A545-6745A656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DA9A-CA74-43A5-9D34-408CF7D0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B67-3C6F-4BA7-83D1-E6FF72AD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002C-4003-4C07-813B-38A62F3C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A953-8E5A-4D04-A4D4-FEFBC753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B511-848E-4EEF-8CA9-A3546A1A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97C7-F914-4559-809A-7D86E962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CB5A-ADC1-4E77-86B9-E76FDCE5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051-9956-40CF-85CC-5F1459A4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571-1EF1-4A3F-9F9D-1B8315A2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0CA-E4AC-432F-9225-9C93367E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24E-739F-48E4-97FF-5AB4A87E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FDE7-6B23-4F8F-9AD9-3E734AB5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B77-E532-413B-B393-F0FBCB2A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02B1-81A6-4457-BF04-6F1BF549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82F8-E35C-435A-886E-72674E744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9E39-0A43-4626-B39B-3588C7673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лужебные части речи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ект выполнил учени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«а» класса Бережной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равочник школьника. Русский яз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 ред. В.Славкина – М., 1999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exam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dia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885080" y="4437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асти речи делятся н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Самостоятельные:</a:t>
            </a:r>
            <a:r>
              <a:rPr b="0" lang="en-US" sz="34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Служебные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:</a:t>
            </a:r>
            <a:r>
              <a:rPr b="0" lang="en-US" sz="34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имя существительное                предло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имя прилагательное                   союз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имя числительное                      частиц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глаго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причаст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деепричаст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нареч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местоимени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лужебные части речи – это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слова, не имеющие номинативного значения (т.е. они не называют предметы, их признаки, процессы и состояни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слова, служащие для выражения отношений между понятиями, которые названы знаменательными словами, и употребляющиеся только в соединении с н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сновные признаки 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лужебных частей речи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се служебные части речи являются неизменяемым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 как у них отсутствуют какие-либо собственно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морфологические характеристик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 как он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членимы на морфем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лужебные части, как правило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не имеют самостоятельного удар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фонетически примыкают к  знаменательным частям р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Служебные части речи не являются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ленами предлож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 используются как формально-грамматические средства язы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Служебными частями речи являютс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Предл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Сою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Част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тличие служебных частей речи от самостоятельных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Служебные части речи не имеют лексического знач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Не бывают членами предлож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В предложении употребляются толь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 самостоятельными частями реч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Не изменятся ( т.е не имеют никаких грамматических категори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8:05:03Z</dcterms:created>
  <dc:creator>SamLab.ws</dc:creator>
  <dc:description/>
  <dc:language>en-US</dc:language>
  <cp:lastModifiedBy>SamLab.ws</cp:lastModifiedBy>
  <dcterms:modified xsi:type="dcterms:W3CDTF">2010-04-21T10:16:30Z</dcterms:modified>
  <cp:revision>3</cp:revision>
  <dc:subject/>
  <dc:title>Служебные части речи.</dc:title>
</cp:coreProperties>
</file>